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3294-5262-42B0-8261-8CA118720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4B44-34B2-4A17-877D-01CC68A4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2157-A50F-453B-B295-6703BDF87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4F8A-5A26-49CD-8082-031545B7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8BEA-AF4F-4809-8460-608B42CC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881B-A61C-47FF-BCB2-C76A2094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8A15-DB7F-455A-809D-6084F970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3638-6C39-43AB-B97E-69DE52E7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541C-1A4B-4B64-BA7E-06173363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DE251-E399-4655-B3EE-5703CB6A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72B8-273C-45FE-8803-48E4608F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0EF8-0504-42D5-9D54-B8B965F98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0DB5-2409-454A-A277-DCC9B2C2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6DDB-724A-4436-8029-2B07BFAC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EB59-22CA-4B1C-B8DB-76C2FAC5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A398-4682-4FE2-9D1B-71F63F164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A6CF-A17C-47B5-A338-998DA4361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6A1D-946C-4B3B-9DA0-41EB2AA9C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0544-806F-4CDB-9F59-A2E47868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5E7E-4199-4058-B4C3-F42FDC73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6048-06D7-44BC-B484-0BA73685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2705-94F8-4096-90E7-86E0B6D3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898D-A17E-40BA-8FAE-7DD8CB57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49E1-53E5-4227-9B27-92520713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AE0C-3BA2-41D3-93B3-9D4CE67074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DBB3-7C27-49E7-8E8D-4A036C2A10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purpose of grading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 Heacox. 2002, Chapter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3124080" y="1981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rading based on rigor: student choi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osing a grade of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 the necessary evidence of of mastery of unit outc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osing  a grade of B or A level work involves students in more complexity, stretches thinking and asks students to extend learning to real life contexts(p.122)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tally 10</a:t>
            </a:r>
            <a:br>
              <a:rPr sz="4400"/>
            </a:br>
            <a:r>
              <a:rPr b="0" lang="en-US" sz="2700" spc="-1" strike="noStrike">
                <a:solidFill>
                  <a:srgbClr val="e5ffff"/>
                </a:solidFill>
                <a:latin typeface="Tahoma"/>
              </a:rPr>
              <a:t>Heacox p.123</a:t>
            </a:r>
            <a:endParaRPr b="0" lang="en-US" sz="27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 you equalize time when students choose more or less time consuming project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tally 10 may help you manage time bet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task that can be chosen is given a score of 2,4,6,or 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udents select one project or several that add up to a score of 10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the following criteria for tiering projects, assigning scores and calculating a final gr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riteria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or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jects at knowledge/ comprehension or application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ounts for 20% of final gr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tally 10 continu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ore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jects at application and or analysis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ounts for 40% of gr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tally 10 continu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ore 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jects at analysis,evaluation, and or synthesis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ounts for 60% of gr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tally 10 continu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ore 10 projects at analysis, evaluation or synthesis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hibits greater complexity, depth or abstractness than do score 6 proje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OW project that reflects rigor rather than simply more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ounts for 100% of final gr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tally 10 continu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 can select several smaller projec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example; one score 6 projects and two score 2 proje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 one score 6 project and one score  4 pro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tally 10 continu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 students can choose the challenging score 10 project and do just one pro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quiring several smaller projects or one or two complex projects should result in students completing work in a similar time fr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tally 10 continu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 lines; students must choose from at least two categories ( not everything from score tw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jects at each level are graded on quality criteria provide ahead of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tudent must meet the standard for work to be considered A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hentic Assessment: The Key to Unlocking Student Suc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k A. Baron, Floyd Bosch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99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ll projects should be available to all student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students can think and learn at higher challenge lev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your criteria for quality work high, yet attainable. See pages 121, 122, and 123  for examp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henti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suring student performance ba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tasks that are relevant and useful 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l life.  These methods include, but are not limited to, student portfolios, oral reports, and reflective journa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rad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 students and their parents feed back on learning prog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on the quality of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s need to know and understand your expecta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tasks basic or advanced are  evaluated on whether or not they meet the quality criteria for that tas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stablishing Quality Crite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clear and conc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specif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language that students underst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flect a high level of expect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not invite less than the highest quality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example instead of “has fewer than four spelling errors,” say “uses correct spelling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what you want , not what you do not wa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ow to avoid sending false messages to students and parent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do we avoid inflating the grades of students who do less complex task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differentiated grades are just a consideration in your overall  grad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ep track of the differentiated  gra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ight the value of assignm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 differentiated assignment may have a point value less than that of a test for all stud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o not grade everything yourself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 may assess their own or a peer’s wor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ing your criter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del the use of evaluation checklist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hecklist can guide their wor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ing self and peer evaluations strengthens the students’ independence and judgm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er evaluators  mus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 given evaluation checklists (i.e. the checklist for literature circle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rades and rigo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irness does become an issue when the only difference between and A and a B is the amount of wor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jects should reflect differences in rigor rather than differences in amount of wor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cox suggests offering a choice of assignments correlated with their challenge level ( Blooms’ taxonom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21:11:15Z</dcterms:created>
  <dc:creator>STU</dc:creator>
  <dc:description/>
  <dc:language>en-US</dc:language>
  <cp:lastModifiedBy>Heather Richmond</cp:lastModifiedBy>
  <dcterms:modified xsi:type="dcterms:W3CDTF">2009-02-02T12:10:00Z</dcterms:modified>
  <cp:revision>14</cp:revision>
  <dc:subject/>
  <dc:title> The purpose of grading </dc:title>
</cp:coreProperties>
</file>